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FF4-83F6-4C06-9AF7-1DA0EA1C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CF1-96A7-468A-A774-7582EC2E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77A-818E-4487-86FF-4B8141D1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D22-7FB9-4E4A-B9C5-FE0D3104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732-9A8A-453F-87CE-97CD12D9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AAF-0BED-4D9B-9F33-0D415E2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6A3-633B-4196-9160-FBC53C5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FFA-0F7D-4B5D-9925-0CC0AAA3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210-5EB9-4550-88C6-76DA52B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702-E1DA-436B-B435-138CC88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AD2-3E5C-40DE-ABFF-38F5D80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BC8-5F9C-44C3-9B7B-2A177EA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A01-9814-4008-A94D-73DE9893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248000" cy="458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" y="1484280"/>
            <a:ext cx="40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3300"/>
                </a:solidFill>
                <a:latin typeface="Tahoma"/>
              </a:rPr>
              <a:t>Das Update geht nur mit Win 2000 oder X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9600" y="155736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zedu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Exe-Datei in ein neues Verzeichnis kop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as Gerät anmachen, indem man den Joystick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er mittleren Position reindrückt und gleichzeit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uf die rote Taste drückt -&gt; Gerät geht in Boot-Mo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Verbinden des Gerätes mit dem PC über das USB-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indows findet neue Hardw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Treiber install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pdatesoftware starten und entsprechend 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rafik konfigur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Start Button in Software drü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instellung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Kabel Nutzung, nur unter Win2000 / XP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st siehe B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19640" y="189000"/>
            <a:ext cx="2705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date SX1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7T21:11:45Z</dcterms:created>
  <dc:creator>Multi</dc:creator>
  <dc:description/>
  <dc:language>en-US</dc:language>
  <cp:lastModifiedBy>Multi</cp:lastModifiedBy>
  <dcterms:modified xsi:type="dcterms:W3CDTF">2004-01-17T21:11:58Z</dcterms:modified>
  <cp:revision>1</cp:revision>
  <dc:subject/>
  <dc:title>Folie 1</dc:title>
</cp:coreProperties>
</file>